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ayattention.wav" ContentType="audio/x-wav"/>
  <Override PartName="/ppt/media/image3.png" ContentType="image/png"/>
  <Override PartName="/ppt/media/suchagenius.wav" ContentType="audio/x-wav"/>
  <Override PartName="/ppt/media/image9.png" ContentType="image/png"/>
  <Override PartName="/ppt/media/EXPLODE.WAV" ContentType="audio/x-wav"/>
  <Override PartName="/ppt/media/DRUMROLL.WAV" ContentType="audio/x-wav"/>
  <Override PartName="/ppt/media/image7.png" ContentType="image/png"/>
  <Override PartName="/ppt/media/image1.png" ContentType="image/png"/>
  <Override PartName="/ppt/media/letsrock.wav" ContentType="audio/x-wav"/>
  <Override PartName="/ppt/media/image2.png" ContentType="image/png"/>
  <Override PartName="/ppt/media/TYPE.WAV" ContentType="audio/x-wav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044D-3A53-4F48-A7A8-0C808553E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CA78-AAED-403C-A97A-A08CCBCDB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DA8-9FC7-40C7-AB75-AA86A195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3D5-1BBF-4F96-8594-7E894A24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B715-4A75-4F6F-8EEF-E062083A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942-977D-4F26-931F-6C03106D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CCD-8A44-46C4-A306-5676A688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B48-D1E3-4316-978A-1481C2C9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EBD-9E76-4100-9959-92D8921E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043-372C-4DCD-A71F-5DA108D3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FCC2-CD89-42D1-B75A-93678FD0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606-3C0C-4D79-8EC4-DFB41DFD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382-7996-4423-8AD5-6730E317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407-A903-4FF0-8842-235C2AB9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AA80-24A4-47FC-A3B7-7EC8401F2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3.xml"/><Relationship Id="rId6" Type="http://schemas.openxmlformats.org/officeDocument/2006/relationships/image" Target="../media/image8.jpeg"/><Relationship Id="rId7" Type="http://schemas.openxmlformats.org/officeDocument/2006/relationships/audio" Target="../media/payattention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suchageniu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etsrock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etsrock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981080" y="609480"/>
            <a:ext cx="52340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CAPITALS RUL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886760" y="324180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Denna Stroud and Ruth Poh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130400" y="958680"/>
            <a:ext cx="585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Is Thanksgiving in Novemb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130760" y="1797120"/>
            <a:ext cx="557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is thanksgiving in novemb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:\images &amp; sounds\holiday\novemberx.gif"/>
          <p:cNvPicPr/>
          <p:nvPr/>
        </p:nvPicPr>
        <p:blipFill>
          <a:blip r:embed="rId3"/>
          <a:stretch/>
        </p:blipFill>
        <p:spPr>
          <a:xfrm>
            <a:off x="1676520" y="3276720"/>
            <a:ext cx="53337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971800" y="838080"/>
            <a:ext cx="3505320" cy="232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ou Rul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AutoShape 3">
            <a:hlinkClick r:id="rId1" action="ppaction://hlinksldjump"/>
          </p:cNvPr>
          <p:cNvSpPr/>
          <p:nvPr/>
        </p:nvSpPr>
        <p:spPr>
          <a:xfrm>
            <a:off x="73152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C:\images &amp; sounds\people\hero.gif"/>
          <p:cNvPicPr/>
          <p:nvPr/>
        </p:nvPicPr>
        <p:blipFill>
          <a:blip r:embed="rId2"/>
          <a:stretch/>
        </p:blipFill>
        <p:spPr>
          <a:xfrm>
            <a:off x="3594240" y="2895480"/>
            <a:ext cx="20905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2057400" y="990720"/>
            <a:ext cx="48340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Oops! Try Again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AutoShape 3">
            <a:hlinkClick r:id="rId1" action="ppaction://hlinksldjump"/>
          </p:cNvPr>
          <p:cNvSpPr/>
          <p:nvPr/>
        </p:nvSpPr>
        <p:spPr>
          <a:xfrm>
            <a:off x="13716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C:\images &amp; sounds\people\crybaby.gif"/>
          <p:cNvPicPr/>
          <p:nvPr/>
        </p:nvPicPr>
        <p:blipFill>
          <a:blip r:embed="rId2"/>
          <a:stretch/>
        </p:blipFill>
        <p:spPr>
          <a:xfrm>
            <a:off x="3429000" y="3429000"/>
            <a:ext cx="1947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36760" y="1111320"/>
            <a:ext cx="74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strange is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going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 to chicago, illino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36040" y="1949400"/>
            <a:ext cx="76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Strange is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go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4" action="ppaction://hlinksldjump"/>
              </a:rPr>
              <a:t>Chicago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5" action="ppaction://hlinksldjump"/>
              </a:rPr>
              <a:t>, Illino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A:\strange.jpg"/>
          <p:cNvPicPr/>
          <p:nvPr/>
        </p:nvPicPr>
        <p:blipFill>
          <a:blip r:embed="rId6"/>
          <a:stretch/>
        </p:blipFill>
        <p:spPr>
          <a:xfrm>
            <a:off x="3276720" y="2895480"/>
            <a:ext cx="30099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ayatten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2057400" y="990720"/>
            <a:ext cx="48340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Oops! Try Again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13716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C:\images &amp; sounds\people\crybaby.gif"/>
          <p:cNvPicPr/>
          <p:nvPr/>
        </p:nvPicPr>
        <p:blipFill>
          <a:blip r:embed="rId1"/>
          <a:stretch/>
        </p:blipFill>
        <p:spPr>
          <a:xfrm>
            <a:off x="3429000" y="3429000"/>
            <a:ext cx="1947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2971800" y="838080"/>
            <a:ext cx="3505320" cy="232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ou Rul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73152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C:\images &amp; sounds\people\hero.gif"/>
          <p:cNvPicPr/>
          <p:nvPr/>
        </p:nvPicPr>
        <p:blipFill>
          <a:blip r:embed="rId1"/>
          <a:stretch/>
        </p:blipFill>
        <p:spPr>
          <a:xfrm>
            <a:off x="3594240" y="2895480"/>
            <a:ext cx="20905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676520" y="43434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Capitalization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tqd.advanced.org/2947/capitalizatio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3"/>
          <p:cNvSpPr txBox="1"/>
          <p:nvPr/>
        </p:nvSpPr>
        <p:spPr>
          <a:xfrm>
            <a:off x="1378080" y="3106800"/>
            <a:ext cx="6381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To review the rules go to: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C:\images &amp; sounds\classroom\teachchalk.gif"/>
          <p:cNvPicPr/>
          <p:nvPr/>
        </p:nvPicPr>
        <p:blipFill>
          <a:blip r:embed="rId1"/>
          <a:stretch/>
        </p:blipFill>
        <p:spPr>
          <a:xfrm>
            <a:off x="3429000" y="685800"/>
            <a:ext cx="2438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hageniu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304920" y="47242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it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ec.uvsc.edu/owl/handouts/capitalization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2367000" y="3143160"/>
            <a:ext cx="4410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o practice click below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C:\images &amp; sounds\animated gifs\band2c.gif"/>
          <p:cNvPicPr/>
          <p:nvPr/>
        </p:nvPicPr>
        <p:blipFill>
          <a:blip r:embed="rId1"/>
          <a:stretch/>
        </p:blipFill>
        <p:spPr>
          <a:xfrm>
            <a:off x="2666880" y="609480"/>
            <a:ext cx="381024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etsr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981080" y="457200"/>
            <a:ext cx="5181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Capitalization Rul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74280" y="2025720"/>
            <a:ext cx="42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a capital letter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56000" y="2666880"/>
            <a:ext cx="50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first word of a sen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743760" y="3306600"/>
            <a:ext cx="22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word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736560" y="3840120"/>
            <a:ext cx="65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names of a person, place or 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35840" y="4373640"/>
            <a:ext cx="710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the names of holidays, days and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8200" y="457200"/>
            <a:ext cx="534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he sentence that us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al letters correct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975400" y="2286000"/>
            <a:ext cx="27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’s pract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C:\images &amp; sounds\animated gifs\band2c.gif"/>
          <p:cNvPicPr/>
          <p:nvPr/>
        </p:nvPicPr>
        <p:blipFill>
          <a:blip r:embed="rId1"/>
          <a:stretch/>
        </p:blipFill>
        <p:spPr>
          <a:xfrm>
            <a:off x="2362320" y="3200400"/>
            <a:ext cx="38098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etsr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>
            <a:hlinkClick r:id="rId1" action="ppaction://hlinksldjump"/>
          </p:cNvPr>
          <p:cNvSpPr/>
          <p:nvPr/>
        </p:nvSpPr>
        <p:spPr>
          <a:xfrm>
            <a:off x="1452240" y="1066680"/>
            <a:ext cx="66013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grandpa has a turtle named spee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452240" y="228600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Grandpa has a turtle named Spee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C:\images &amp; sounds\creatures\turtle.gif"/>
          <p:cNvPicPr/>
          <p:nvPr/>
        </p:nvPicPr>
        <p:blipFill>
          <a:blip r:embed="rId4"/>
          <a:stretch/>
        </p:blipFill>
        <p:spPr>
          <a:xfrm>
            <a:off x="2438280" y="3649680"/>
            <a:ext cx="487692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2971800" y="838080"/>
            <a:ext cx="3505320" cy="232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ou Rul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3" name="Picture 4" descr="C:\images &amp; sounds\people\hero.gif"/>
          <p:cNvPicPr/>
          <p:nvPr/>
        </p:nvPicPr>
        <p:blipFill>
          <a:blip r:embed="rId1"/>
          <a:stretch/>
        </p:blipFill>
        <p:spPr>
          <a:xfrm>
            <a:off x="3594240" y="2895480"/>
            <a:ext cx="2090520" cy="33530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5">
            <a:hlinkClick r:id="rId2" action="ppaction://hlinksldjump"/>
          </p:cNvPr>
          <p:cNvSpPr/>
          <p:nvPr/>
        </p:nvSpPr>
        <p:spPr>
          <a:xfrm>
            <a:off x="7543800" y="4495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2057400" y="990720"/>
            <a:ext cx="48340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Oops! Try Again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Picture 3" descr="C:\images &amp; sounds\people\crybaby.gif"/>
          <p:cNvPicPr/>
          <p:nvPr/>
        </p:nvPicPr>
        <p:blipFill>
          <a:blip r:embed="rId1"/>
          <a:stretch/>
        </p:blipFill>
        <p:spPr>
          <a:xfrm>
            <a:off x="3429000" y="3429000"/>
            <a:ext cx="1947960" cy="28195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4">
            <a:hlinkClick r:id="rId2" action="ppaction://hlinksldjump"/>
          </p:cNvPr>
          <p:cNvSpPr/>
          <p:nvPr/>
        </p:nvSpPr>
        <p:spPr>
          <a:xfrm>
            <a:off x="121932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537840" y="609480"/>
            <a:ext cx="81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Our two cats are named Tippy and Mitte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99040" y="1568520"/>
            <a:ext cx="781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our two cats are named tippy and mitte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C:\images &amp; sounds\creatures\cat.gif"/>
          <p:cNvPicPr/>
          <p:nvPr/>
        </p:nvPicPr>
        <p:blipFill>
          <a:blip r:embed="rId3"/>
          <a:stretch/>
        </p:blipFill>
        <p:spPr>
          <a:xfrm>
            <a:off x="1371600" y="2590920"/>
            <a:ext cx="2467080" cy="346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images &amp; sounds\creatures\kitten2.gif"/>
          <p:cNvPicPr/>
          <p:nvPr/>
        </p:nvPicPr>
        <p:blipFill>
          <a:blip r:embed="rId4"/>
          <a:stretch/>
        </p:blipFill>
        <p:spPr>
          <a:xfrm>
            <a:off x="5257800" y="3814920"/>
            <a:ext cx="281952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2971800" y="838080"/>
            <a:ext cx="3505320" cy="232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ou Rul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6">
            <a:hlinkClick r:id="rId1" action="ppaction://hlinksldjump"/>
          </p:cNvPr>
          <p:cNvSpPr/>
          <p:nvPr/>
        </p:nvSpPr>
        <p:spPr>
          <a:xfrm>
            <a:off x="76201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C:\images &amp; sounds\people\hero.gif"/>
          <p:cNvPicPr/>
          <p:nvPr/>
        </p:nvPicPr>
        <p:blipFill>
          <a:blip r:embed="rId2"/>
          <a:stretch/>
        </p:blipFill>
        <p:spPr>
          <a:xfrm>
            <a:off x="3594240" y="2895480"/>
            <a:ext cx="20905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2057400" y="990720"/>
            <a:ext cx="48340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Oops! Try Again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AutoShape 3">
            <a:hlinkClick r:id="rId1" action="ppaction://hlinksldjump"/>
          </p:cNvPr>
          <p:cNvSpPr/>
          <p:nvPr/>
        </p:nvSpPr>
        <p:spPr>
          <a:xfrm>
            <a:off x="1295280" y="5638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C:\images &amp; sounds\people\crybaby.gif"/>
          <p:cNvPicPr/>
          <p:nvPr/>
        </p:nvPicPr>
        <p:blipFill>
          <a:blip r:embed="rId2"/>
          <a:stretch/>
        </p:blipFill>
        <p:spPr>
          <a:xfrm>
            <a:off x="3429000" y="3429000"/>
            <a:ext cx="1947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1T17:32:24Z</dcterms:created>
  <dc:creator>Pre-Installed-User</dc:creator>
  <dc:description/>
  <dc:language>en-US</dc:language>
  <cp:lastModifiedBy>... ...</cp:lastModifiedBy>
  <dcterms:modified xsi:type="dcterms:W3CDTF">2011-07-08T02:15:17Z</dcterms:modified>
  <cp:revision>8</cp:revision>
  <dc:subject/>
  <dc:title>No Slide Title</dc:title>
</cp:coreProperties>
</file>